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9F1DF-3E7B-4DB3-AF18-942C8F11AA1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9D928-B998-4B29-AB48-7B1E977B61C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3B3CD-E90F-47F2-B984-943612F4093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B5E96-7237-42E3-85AB-8A3DEDE03D4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0E5FB-68DA-4253-BB02-EB378209D16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3C26A-5250-459E-A5B9-FEF39843103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39929-D19B-46C8-B562-453F5D659C4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989D3-9E4D-4EF0-BE74-9B1A9C5CD8F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EF963-E456-4EEE-8961-FB9C0909A669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3E9F1-2312-4F48-A537-5E4B7782FFD4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97069-1691-4DE5-99A5-C8BDD0C112D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A2471-F524-408A-BADD-AA03D480E74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D134D-3B37-46D0-86B0-FE1FFFEEF04C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05FC0-3B85-4315-BFF8-97A78F2AA3FF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E9C70-22B7-49CF-92AA-A328866BB3A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72480-8658-4330-B826-373FFE64B8DD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8D2D9-CA2F-464D-A29C-5194DABF1AA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0E2AF-C083-43C9-890F-7825E22ABC2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81A7E-6D59-4968-8D9D-2725EEFEBBA0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14DCB-3120-4834-848A-3B00756B342B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0BA8C-4145-43BA-88E1-51FB03F8E29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5B86D-B9C7-4827-B9C5-00C9D4BF8C4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2D118-51E6-4E6A-8564-DD030AAC676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D074C-03DE-4727-B8C7-FCF29D6509D6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19F37-E8C1-45FB-BB89-F4619D0D6533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3045-3034-49C9-B177-252E02E62C0A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0D077-E012-4630-A956-F3BE4563E9E5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BFF15-C540-45FC-8D40-190FE0771087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68BBF-2FE0-4C78-A9C6-C1AF78CB43F2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4EF45-6459-4A40-9407-0CC896D9A0F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60CAC-2625-4CAC-8B81-F40FFFA72FF8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B8A43-63A1-49DE-B54F-A01D52C94671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081B4-8AFF-4EF3-9085-5E44C24754EE}" type="slidenum">
              <a:rPr b="1" lang="it-IT" sz="1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8534-7EFB-48FA-8413-EE2EC0AB9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52F3-F6AE-4708-9AEB-C00AD7160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0DC1-E8AF-4ED4-9AF2-D7FE9495A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A2FA-4C37-4EDA-B68B-F0B70B1B3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6DE4-B0E0-4785-B146-20266E7A52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7532-A452-489F-833D-F0BBBAF738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648D-90AD-4E56-A6D1-47E2D0F3F3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02B4-C102-46B3-B6A0-CE0B547E85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461D-E10F-43B3-B826-D071612FCB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97C34-D718-4199-8210-42A6B4FBE6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1462-7B2B-4251-9626-4E89EC30E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F0A0-C955-47B9-9E2B-66F35BD94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9221-7FA2-4E3F-99A1-62ACA00649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FEBE-6B5F-4EBB-B081-6F0D8E054D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EC04-81D7-4D09-A375-084B8CA777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8166-56A0-4A24-A147-19544646B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068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1360" y="197928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068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1360" y="4419000"/>
            <a:ext cx="295272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0F78-9CD4-426F-B8DE-1BE8F04B9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8443-4D78-4353-A64C-E6624E448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5B02-4925-4F4B-835C-0AD9A1DB5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CF87-4C4B-498F-965C-BE5BA9CAD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02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9C48-C2C1-441D-8A5F-8DA37593E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AB23-20EF-40ED-B380-5B0E29A01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9440" y="441900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4956-4169-4676-9AA5-08EECB456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9440" y="1979280"/>
            <a:ext cx="447516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19000"/>
            <a:ext cx="9171000" cy="22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B94D-76B2-4CC0-A307-62650411B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02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10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7559640" y="6840360"/>
            <a:ext cx="233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6D1AA-BBB3-449F-87CF-2D468B4AAB6F}" type="slidenum">
              <a:rPr b="1" lang="it-IT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360"/>
            <a:ext cx="9350280" cy="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1000" cy="25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559640" y="6840360"/>
            <a:ext cx="23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79640" y="6840360"/>
            <a:ext cx="32367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178920" y="6840000"/>
            <a:ext cx="5302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D0B5D-3C29-4397-9698-13A989B445DE}" type="slidenum">
              <a:rPr b="1" lang="it-IT" sz="2400" spc="-1" strike="noStrike">
                <a:solidFill>
                  <a:srgbClr val="e74c3c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RT-FS-DATI10/dati10/MIT/MOB_DOLCE/FSC/Progetti%20Presentati/Primo%20Avviso/Figline%20e%20Incisa/154159642506735-1-UP0_BLOB_ARRIVO/Documentazione/Tav%20A04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iano Operativo FSC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Infrastrutture 2014-2020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475160" y="243000"/>
            <a:ext cx="525600" cy="88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C6F8F-CB0A-48FC-96CF-9EDB259C3C24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già finanziati posti a monte e a valle, di cui il progetto costituisce un continuu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di lunghezza limitata pari a 640 m, ma di complessa realizzazione prevede solo  tratti in sede propria;  l’intervento risente dei vincoli dettati dall’orografia e  prevede il passaggio in prossimità della strada provinciale per migliorarne la fruibilità; necessario il passaggio in area protetta e, quindi, la relativa autorizzazione (tratto 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9724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LA SCELTA DELLA TIPOLOGIA DI SOTTOFONDO DA UTILIZZARE (tratti 3 e 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’INTERVENTO DOVRÀ ESSERE COMPATIBILE CON L’ADEGUAMENTO DI PERCORSI ESISTENTI ALL’INTERNO DELLA RISERVA NATURALE DI BANDELLA  (VEDI STUDIO DI INCIDENZA TRATTI GIA’ FINANZIA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CORRETTA ATTRIBUZIONE DELLE VOCI DI SPESA RISPETTO ALL’AMMISSIBILITÀ A CONTRIBUTO (Delibera della GR 758/201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E3F30-1D37-4E2B-A670-33894744189B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4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Provincia di Arezzo – Ammissibilità delle spes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8760" y="1655640"/>
            <a:ext cx="91789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373040" y="1655640"/>
            <a:ext cx="7334280" cy="4248360"/>
          </a:xfrm>
          <a:prstGeom prst="rect">
            <a:avLst/>
          </a:prstGeom>
          <a:ln w="0">
            <a:noFill/>
          </a:ln>
        </p:spPr>
      </p:pic>
      <p:sp>
        <p:nvSpPr>
          <p:cNvPr id="152" name="Rettangolo 1"/>
          <p:cNvSpPr/>
          <p:nvPr/>
        </p:nvSpPr>
        <p:spPr>
          <a:xfrm>
            <a:off x="193680" y="6195960"/>
            <a:ext cx="7583400" cy="949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Source Sans Pro"/>
              </a:rPr>
              <a:t>SPESE TECNICHE </a:t>
            </a: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fino ad un massimo del 10 % dell’importo a base d’appalto,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Source Sans Pro"/>
              </a:rPr>
              <a:t>comprensivo degli oneri della sicurezz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Ovale 2"/>
          <p:cNvSpPr/>
          <p:nvPr/>
        </p:nvSpPr>
        <p:spPr>
          <a:xfrm>
            <a:off x="7128000" y="3419640"/>
            <a:ext cx="122544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cxnSp>
        <p:nvCxnSpPr>
          <p:cNvPr id="154" name="Connettore 2 4"/>
          <p:cNvCxnSpPr/>
          <p:nvPr/>
        </p:nvCxnSpPr>
        <p:spPr>
          <a:xfrm flipV="1">
            <a:off x="6408720" y="3995280"/>
            <a:ext cx="1008720" cy="220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8365B-33F2-43D1-8CCA-10B7DAEC035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inalung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1280" y="1584360"/>
          <a:ext cx="9722160" cy="599112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991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si tratta di un collegamento tra il tracciato principale del Sentiero della Bonifica con i centri urbani di Sinalunga (stazione) e Bettole, nonché con alcune itinerari di interesse regionale (Lauretana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la realizzazione di due nuovi tratti per un complesso di 12 km passanti da zone a buona valenza storico paesaggistica; da valutare un miglioramento degli interventi proposti, in particolare sul fondo, che sembrano essere insufficienti a garantire la fruizione ciclis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NECESSARIO CHIARIRE LO STATO DEL PERCORSO, IN PARTICOLARE I «TRATTI ERBOSI» E LE STRADE BIANCHE, PER COMPRENDERE SE RIDURRE LA LUNGHEZZA DEL PERCORSO MIGLIORANDONE LA QUALIT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NUOVI TRATTI CICLABI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PPROFONDIRE  LE MODALITÀ DI PASSAGGIO SU PONTI ESISTENTI E PER I QUALI NON E’ PREVISTA RIQUALIFICAZIONE PER GARANTIRE LA SICUREZZA DEGLI UTENT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TTRAVERSAMENTI SU SP DA VALUTARE SE NECESSARIO SEMAFORO A CHIAMATA (LIVELLO DI TRAFFIC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SC DEL SANTARELLO A BASSA INTENSITÀ DI TRAFFICO-&gt; CHIARIRE COSA SI INTENDE PER DIMINUZIONE DELLA  VELOCITÀ CONSENT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E3EB8-9E92-4FC5-A9C4-C37CAE2C4CF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sepolcr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71280" y="1584360"/>
          <a:ext cx="9722160" cy="581508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0726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percorso lungo ben 23 km di connessione tra le Ciclovie dell’Arno e la Tiberina che ricalca la «ciclovia dei 2 mari» presente nel PRIIM. L’intervento rappresenta il primo stralcio di un progetto denominato “ itinerario tra il fiume Arno e Tevere….” inserito nel piano provinciale della mobilità della Provincia di Arezzo, oltre che nel PRIIM e nel PIT.  La continuità è immediatamente realizzata con la Ciclovia Tiber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vede il collegamento tra gli abitati di Le Ville, Anghiari e Sansepolcro lungo la vecchia ferrovia dismessa Arezzo-Fossato di Vico; permette perciò il collegamento tra località ad alto potenziale turistico, la stazione di Sansepolcro, polo di interscambio modale, e la Regione Umbria; in parte sede propria e principalmente con tratti promiscui con traffico ridotto; presenti alcune criticità non risol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ESCLUDERE INTERVENTI DI MANUTENZIONE ORDIN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NTERVEN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FCBA1-1DF5-43A1-BCB3-3B0C5E4EDA65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lcina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71280" y="1584360"/>
          <a:ext cx="9722160" cy="51530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22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0779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risolve il collegamento in sicurezza tra i tratti in fase di realizzazione di Cascina e Pontedera della Ciclopist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, nonostante ha lunghezza limitata pari a 5,9 km, prevede sia  tratti in sede propria che in promiscuo; si tratta di un itinerario a valenza cicloturistica, più che di mobilità urb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7128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CHIARIRE LA TIPOLOGIA DI ATTRAVERSAMENTO DELLA SR TOSCO-ROMAGN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ER LE AREE DI SOSTA UTILIZZARE MODELLO T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13C97-28BB-4645-A3C8-17409F29A623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Montignos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1280" y="1584360"/>
          <a:ext cx="9722160" cy="517536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342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 è funzionale  al completamento di ampi tratti già percorribili a nord (comune di Massa) e a sud (Comune di Forte dei Marmi e seguire); con un intervento di lunghezza molto limitata (0,73 km) rende percorribile con continuità tutto il tracciato litoraneo delle province di Massa e Carrara e Luc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di lunghezza limitata prevede un percorso completamente in sede propria (con larghezza di 3 metri, affiancata da marciapiede pedonale di 1,6 metri) e la realizzazione di un’area di sos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4468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RENDERE COERENTE IL CROPROGRAMMA LAVORI DELLA DOMANDA DI PARTECIPAZIONE E IL CRONOPROGRAMMA DEL PROGETTO (5 MESI INVECE DI 4)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DEFINIRE LA TIPOLOGIA DELLE RASTRELLIERE BICI, CHE DOVRÀ ESSERE DEL TIPO “BLOCCATELAIO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B546B-C168-4C96-9E8B-5F4C2104B46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San Mini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108000" y="1474920"/>
          <a:ext cx="9864720" cy="5986440"/>
        </p:xfrm>
        <a:graphic>
          <a:graphicData uri="http://schemas.openxmlformats.org/drawingml/2006/table">
            <a:tbl>
              <a:tblPr/>
              <a:tblGrid>
                <a:gridCol w="986472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la lunghezza complessiva dei tracciati è di 13 km. Da rilevare che si tratta di tratte che congiungono i centri principali in riva destra dell’Arno, come previsto dall’Accordo del 2015 e in accordo con il PRIIM che prevede la Ciclopista in riva destra (allegato C. 9 del PRIIM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oposto raggiunge i principali centri abitati lungo la ciclopista, creando una rete percorribile in sicurezz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54924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IGNIFICATIVITÀ DI ALCUNI TRA I TRATTI PROPOSTI (Castelfranco di Sotto -&gt; prosecuzione dal centro urbano verso la nuova rotonda; Comune di Cerreto Guidi -&gt; tratto di Ripoli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 PER I TRATTI DI NUOVA REALIZZ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TEGRARE IL CRONOPROGRAMMA GENERALE CON IL  CRONOPROGRAMMA DI CERRETO GU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DA VALUTARE  LE MODALITÀ DI ATTRAVERSAMENTO IN SICUREZZA DEL PONTE DI MARCIGNA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3F1B7-D623-415A-9558-B486C4508C8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ASI COPROGETTAZION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-1440" y="1631880"/>
          <a:ext cx="9721800" cy="498312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73152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VALUTAZIONE PROGETTO E INDIVIDUAZIONE 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0000"/>
                          </a:solidFill>
                          <a:latin typeface="Source Sans Pro Black"/>
                          <a:ea typeface="源ノ角ゴシック Heavy"/>
                        </a:rPr>
                        <a:t>- APERTURA FASE DI COPROGET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SOPRALLUOGHI E APPROFONDIM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7066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ONSEGNA DEI PROGETTI REVISIONA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VALUTAZIONE DI COERENZA dei progetti revisionati con le proposte originarie e IDENTIFICAZIONE DEL CONTRIBUTO nei limiti del budget massimo concedibile già stabil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3287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- CHIUSURA FASE DI COPROGETTAZIONE CON AMMISSIONE A FINANZIAMENTO DEI PROGETTI E STIPULA DELLE RELATIVE CONVENZIONI tra la regione egli enti beneficia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27B30-E611-4FEE-B30C-3F6BF29B07C2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Figline e Incisa Valdarn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1680" y="1522440"/>
          <a:ext cx="9721800" cy="528804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risolve l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problematiche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attualmente esistenti nel Comune di Figline e Incisa che impediscono il collegamento in sicurezza tra il tratto realizzato a Figline e il tratto progettato nel Comune di San Giovanni; risolve inoltre il passaggio sul torrente Cesto nei periodi non siccitosi (attualmente esiste un guad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nterventi limitati ma sostanzialmente conformi alle necessità pres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53296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GARANTIRE STESSA FUNZIONALITA’ CICLOVIA ARNO (CICLOVIA SOLE) ; TRATTO  A-A0 – VALUTARE LA POSSIBILITA’ DI ALLARGARE A 3 M; PREVEDERE SEGNALETICA CONFORME ALLA CICLOVIA A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E CARATTERISTICHE DELLA PASSERELLA SUL CESTO SIANO TALI DA GARANTIRE LA COERENZA CON IL PD DELLA CASSA DI ESPANSIONE «RESTONE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CHE L’ALTEZZA DEL PARAPETTO + CORRIMANO (ALTEZZA DELLE SPALLETTE) SIA PARI AD ALMENO 150 CM (VEDI DM 557/1999 PER SOVRAPPASSI) </a:t>
                      </a:r>
                      <a:r>
                        <a:rPr b="0" lang="it-IT" sz="1600" spc="-1" strike="noStrike" u="sng">
                          <a:solidFill>
                            <a:srgbClr val="ccccff"/>
                          </a:solidFill>
                          <a:uFillTx/>
                          <a:latin typeface="Source Sans Pro Semibold"/>
                          <a:hlinkClick r:id="rId2"/>
                        </a:rPr>
                        <a:t>TAVOL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26928-11AA-405D-BCB3-03602CB5B85E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Pontassieve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71280" y="1584360"/>
          <a:ext cx="9722160" cy="5595840"/>
        </p:xfrm>
        <a:graphic>
          <a:graphicData uri="http://schemas.openxmlformats.org/drawingml/2006/table">
            <a:tbl>
              <a:tblPr/>
              <a:tblGrid>
                <a:gridCol w="9722160"/>
              </a:tblGrid>
              <a:tr h="6915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85580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il progetto, che coinvolge un tratto piuttosto lungo, risolve il collegamento in sicurezza tra i tratti realizzati di Firenze-Girone e Figline e Incisa Valdarno della Ciclovia dell’Ar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: il progetto presenta varie tipologie di tracciato e sottofondo; potrebbe essere migliorato in alcuni tratti, in particolare nei Comuni di Fiesole e Pontassieve, identificando un tracciato più aderente all’asta fluv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82708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POSSIBILITÀ DI IDENTIFICARE UN TRACCIATO PIÙ ADERENTE ALL’ASTA FLUVIALE E CON PENDENZE PIU’ IDONEE AD UN UTENZA CICLOTURISTICA-&gt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GIRONE - COMPIOBBI VEDI QUANTO PROPOSTO IN SEDE DI PFE DELLA </a:t>
                      </a:r>
                      <a:r>
                        <a:rPr b="1" lang="it-IT" sz="1400" spc="-1" strike="noStrike" u="sng">
                          <a:solidFill>
                            <a:srgbClr val="ff0000"/>
                          </a:solidFill>
                          <a:uFillTx/>
                          <a:latin typeface="Source Sans Pro Semibold"/>
                          <a:ea typeface="源ノ角ゴシック Medium"/>
                        </a:rPr>
                        <a:t> CICLOVIA DEL SO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COMPIOBBI - LE FALLE – PERCORSO IN SEDE PROPRIA SUL LATO SINISTRO DELLA SS67/ARGINE ARNO +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ATTRAVERSAMENTO DELL’ABITATO ELLERA SUL VECCHIO TRACCIATO DELLA STATALE, ANCHE IN PROMISCU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lvl="1" marL="7430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Source Sans Pro Semibold"/>
                          <a:ea typeface="源ノ角ゴシック Medium"/>
                        </a:rPr>
                        <a:t>TRATTO LE FALLE – SIECI – PASSAGGIO SULL’ARGINE DEL FIUME  A MARGINE DEI CAMP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02E59-EF7F-43D8-BCB8-282AB13F2E8F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FONDO NON ASFALTATO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06280" y="1446120"/>
            <a:ext cx="733428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B2BCD-B3A6-497D-A11C-FAB2630B482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280" y="1619280"/>
            <a:ext cx="1000944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oi sia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aggravio del rischio per le persone e per l'immobile oggetto dell'intervento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siano adottate nei piani comunali di protezione civile misure per regolarne l'utilizzo in caso di eventi alluvionali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790B3-916E-4AE2-9A0C-A683E3F477A7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87280" y="1619280"/>
            <a:ext cx="943308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3 – Tutela dei corsi d’acqua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egli alvei, nelle golene, sugli argini e nelle aree comprendenti le due fasce di larghezza di dieci metri dal piede esterno dell'argine o, in mancanza, dal ciglio di sponda dei corsi d’acqua del reticolo idrografico sono consentiti :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…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f) itinerari ciclopedonali;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Gli interventi  sono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consentiti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Source Sans Pro Semibold"/>
              </a:rPr>
              <a:t>previa autorizzazione della struttura regionale  competente (Settore Difesa del Suolo)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che verifica la compatibilità idraulica nel rispetto delle seguenti condizioni: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 assicurato il miglioramento o la non alterazione del buon regime delle acqu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esigenze di regimazione idraulica, accessibilità e manutenzione del corso d'acqua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siano compatibili con la presenza di opere idraulich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interferiscano con la stabilità del fondo e delle spond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in altre aree derivante dalla realizzazione dell'intervento;</a:t>
            </a:r>
            <a:r>
              <a:rPr b="1" lang="it-IT" sz="1800" spc="-1" strike="noStrike">
                <a:solidFill>
                  <a:srgbClr val="ffffff"/>
                </a:solidFill>
                <a:latin typeface="Source Sans Pro Semibold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ource Sans Pro Semibold"/>
              </a:rPr>
              <a:t>non vi sia aggravio del rischio per le persone; </a:t>
            </a: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0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5E879-C25B-43AA-89B6-04126049394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8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LR 41/2018 -</a:t>
            </a:r>
            <a:r>
              <a:rPr b="1" lang="it-IT" sz="3200" spc="-1" strike="noStrike">
                <a:solidFill>
                  <a:srgbClr val="ffffff"/>
                </a:solidFill>
                <a:latin typeface="Source Sans Pro Semibold"/>
              </a:rPr>
              <a:t>Disposizioni in materia di rischio di alluvioni e di tutela dei corsi d’acqu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47840" y="1619280"/>
            <a:ext cx="9178920" cy="57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rt.  13 – Infrastrutture lineari o a rete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Gli </a:t>
            </a:r>
            <a:r>
              <a:rPr b="0" lang="it-IT" sz="2000" spc="-1" strike="noStrike">
                <a:solidFill>
                  <a:srgbClr val="ff0000"/>
                </a:solidFill>
                <a:latin typeface="Source Sans Pro Semibold"/>
              </a:rPr>
              <a:t>itinerari ciclopedonali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possono essere realizzati nelle</a:t>
            </a:r>
            <a:r>
              <a:rPr b="1" lang="it-IT" sz="2000" spc="-1" strike="noStrike">
                <a:solidFill>
                  <a:srgbClr val="ffffff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aree a pericolosità per alluvioni frequenti o poco frequenti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, indipendentemente dalla magnitudo idraulica, nel rispetto delle seguenti condizioni: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venga assicurato il non aggravio delle condizioni di rischio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siano previste le </a:t>
            </a:r>
            <a:r>
              <a:rPr b="1" lang="it-IT" sz="2000" spc="-1" strike="noStrike">
                <a:solidFill>
                  <a:srgbClr val="ff0000"/>
                </a:solidFill>
                <a:latin typeface="Source Sans Pro Semibold"/>
              </a:rPr>
              <a:t>misure preventive atte a regolarne </a:t>
            </a:r>
            <a:r>
              <a:rPr b="1" lang="it-IT" sz="2000" spc="-1" strike="noStrike">
                <a:solidFill>
                  <a:srgbClr val="000000"/>
                </a:solidFill>
                <a:latin typeface="Source Sans Pro Semibold"/>
              </a:rPr>
              <a:t>l'utilizzo in caso di eventi alluvionali</a:t>
            </a: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  <a:p>
            <a:pPr>
              <a:lnSpc>
                <a:spcPct val="83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79280" y="6840360"/>
            <a:ext cx="536760" cy="5367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936A1-EFA8-4960-880F-E2565D958E5D}" type="slidenum">
              <a:rPr b="1" lang="it-IT" sz="18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Comune di Cavriglia</a:t>
            </a:r>
            <a:endParaRPr b="0" lang="en-US" sz="3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60360" y="1776240"/>
            <a:ext cx="9393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26483" t="0" r="27414" b="0"/>
          <a:stretch/>
        </p:blipFill>
        <p:spPr>
          <a:xfrm>
            <a:off x="8859960" y="255600"/>
            <a:ext cx="7668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0760" y="1474920"/>
          <a:ext cx="9721800" cy="5154480"/>
        </p:xfrm>
        <a:graphic>
          <a:graphicData uri="http://schemas.openxmlformats.org/drawingml/2006/table">
            <a:tbl>
              <a:tblPr/>
              <a:tblGrid>
                <a:gridCol w="9721800"/>
              </a:tblGrid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76508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lunghezza, </a:t>
                      </a:r>
                      <a:r>
                        <a:rPr b="1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continuità e connessione dell’itinerario ciclabile con tratte esistenti: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  si tratta di un collegamento tra il tracciato principale della ciclopista dell’Arno, l’abitato di Cavriglia e alcune zone di interesse naturalistico e sportivo, nonché il comune di Gaiole da cui passa l’Eroica (percorso cicloturistico inserito nella pianificazione della provincia di Siena) che però non è collegata direttament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0000"/>
                          </a:solidFill>
                          <a:latin typeface="Source Sans Pro Semibold"/>
                        </a:rPr>
                        <a:t>Qualità dell’intervento: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l progetto prevede la ricucitura di tratti esistenti con tracciati in sede propria e promiscu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9960">
                <a:tc>
                  <a:txBody>
                    <a:bodyPr lIns="90000" rIns="90000" tIns="3484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Source Sans Pro Black"/>
                          <a:ea typeface="源ノ角ゴシック Heavy"/>
                        </a:rPr>
                        <a:t>FATTORI DI MIGLIORA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439720">
                <a:tc>
                  <a:txBody>
                    <a:bodyPr lIns="90000" rIns="90000" tIns="34848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ERIFICARE LA FUNZIONALITÀ DEL TRATTO CAVRIGLIA-CONFINE CON GAIOLE; nel comune di Gaiole è stato progettato un percorso che da continuità fino al capoluogo comunale, da garantire corrispondenza al confin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ACQUISIRE LA DOCUMENTAZIONE PROGETTUALE E GLI ACCORDI INERENTI LA REALIZZAZIONE DEL TRATTO INTERMEDIO NELL’AREA EX MINERARIA ENEL DI SANTA BAR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VALUTARE LA SCELTA DELLA TIPOLOGIA DI SOTTOFONDO DA UTILIZZ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  <a:p>
                      <a:pPr marL="285840" indent="-28584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Source Sans Pro Semibold"/>
                        </a:rPr>
                        <a:t>INSERIRE UNO SPECIFICO CAPITOLO SULLA EVENTUALE RISPONDENZA A LR 41/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Source Sans Pro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27"/>
          <p:cNvSpPr/>
          <p:nvPr/>
        </p:nvSpPr>
        <p:spPr>
          <a:xfrm>
            <a:off x="936720" y="684036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Source Sans Pro Black"/>
                <a:ea typeface="源ノ角ゴシック Heavy"/>
              </a:rPr>
              <a:t>FSC Infrastrutture 2014-2020</a:t>
            </a:r>
            <a:endParaRPr b="0" lang="en-US" sz="28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09:09:36Z</dcterms:created>
  <dc:creator>Alessandro Romei</dc:creator>
  <dc:description/>
  <dc:language>en-US</dc:language>
  <cp:lastModifiedBy>MG18492</cp:lastModifiedBy>
  <cp:lastPrinted>2018-04-12T09:36:50Z</cp:lastPrinted>
  <dcterms:modified xsi:type="dcterms:W3CDTF">2019-05-13T20:11:13Z</dcterms:modified>
  <cp:revision>59</cp:revision>
  <dc:subject/>
  <dc:title>Manutenzione del sistema integrato  Ciclopista dell’Arno  - Sentiero della Bonifica</dc:title>
</cp:coreProperties>
</file>